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F135-D75D-4744-BA04-0D4B6912A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9997-3514-4A18-8171-FAAE9B90B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4D71-3E27-4566-A755-5C82F3D36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07B9-979C-40AF-A893-FDFA796D6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A467D-E3F6-4F84-A18C-24F52FD29F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F012A-7FFE-438E-BA69-73D155BCEF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5C259-5624-44D7-95FB-4FF723F346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2DA18-28DC-4A95-92E6-2F7656841B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AADF8-593B-49DD-AE80-2A5B4F5212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CB28C-F21E-430E-9277-1066AC9BBF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3D8B9-43E3-430E-8C2A-572372E719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1770-3E87-4BA4-A4E6-20D48C030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CC8F-2871-4448-A9C6-D8EFB9EDED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F5CBB-B90B-460C-92B9-C77B38EAE8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1495-C882-453F-9D53-27CA7257AA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D95A2-20C4-4B2A-A00B-BBE6297435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E0183-0EF4-4EE1-85BD-E09A61B72B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B48B-C621-457B-B18B-4D49E8274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F5D5-F7E4-4140-9D7C-5025A36A2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9B80-1760-4DFB-AA47-B9B3456F6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1C13-030D-4C83-B38C-129FFF079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2DC3-61B0-4051-8D6D-FF82493C5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EE19-9692-45C2-9D42-9B9F87B6F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99DD-E1AC-4C9C-B23F-B27080D26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ACCA-599F-4016-B9E7-C3B068558C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498F-91AC-409A-BEEB-D1EDC85174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6F35-7844-4806-A072-DD9C89653F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</a:rPr>
              <a:t>Responding to Students Over Time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riangle Dot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29EB-F5B3-4733-BC83-906B1D585A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7835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riangle Dot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C357-1094-4910-8C29-7D23B64328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Kaye</cp:lastModifiedBy>
  <dcterms:modified xsi:type="dcterms:W3CDTF">2011-07-26T20:29:18Z</dcterms:modified>
  <cp:revision>36</cp:revision>
  <dc:subject/>
  <dc:title>&lt;Title&gt;</dc:title>
</cp:coreProperties>
</file>